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EA3-5723-459B-ACA7-0C6E5CFD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839-E0B4-4C69-A311-63A5DD24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D65-8C4B-420B-891C-BA6F844C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5A7-CDA1-496B-AAD9-B822638D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EA2-9829-414A-BE93-2CB97A6C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6F0-C8B1-4A68-86AA-4EA6A2A0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117-D870-470C-BBE4-40310B48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29C-5ECB-44B6-A44B-AD655FD2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D64-5AFF-45EC-A4DC-82D5B02C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89B-7731-4277-B1C4-B0E66ECA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957-4A10-4A2F-A77D-926B7736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999-5FD4-4B1A-9639-5AE7A202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12C9-64C1-47BA-BDA4-E2F9B17F5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684360" y="1357200"/>
            <a:ext cx="8137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Arial"/>
              </a:rPr>
              <a:t>БЮДЖЕТ ДЛЯ ГРАЖ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Arial"/>
              </a:rPr>
              <a:t>МО «Озерский сельсовет» Щигровского района Курской обла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Arial"/>
              </a:rPr>
              <a:t>на 2016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униципальные программы, направленные на поддержку отраслей экономики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тыс.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713800" cy="2158920"/>
        </p:xfrm>
        <a:graphic>
          <a:graphicData uri="http://schemas.openxmlformats.org/drawingml/2006/table">
            <a:tbl>
              <a:tblPr/>
              <a:tblGrid>
                <a:gridCol w="7200720"/>
                <a:gridCol w="15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качественными услугами ЖКХ насел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сходы на содержание аппарата управления в 2016 году, тыс.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8229600" cy="1233360"/>
        </p:xfrm>
        <a:graphic>
          <a:graphicData uri="http://schemas.openxmlformats.org/drawingml/2006/table">
            <a:tbl>
              <a:tblPr/>
              <a:tblGrid>
                <a:gridCol w="6491160"/>
                <a:gridCol w="1738440"/>
              </a:tblGrid>
              <a:tr h="53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расх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онирование администрации Озерского сельсовета Щигровского района Курской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3,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5" descr="Administr"/>
          <p:cNvPicPr/>
          <p:nvPr/>
        </p:nvPicPr>
        <p:blipFill>
          <a:blip r:embed="rId1"/>
          <a:stretch/>
        </p:blipFill>
        <p:spPr>
          <a:xfrm>
            <a:off x="611280" y="3857760"/>
            <a:ext cx="4319640" cy="2500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3" descr="i?id=76841b90a535d5bf5d7468b8b62cb188-101-144&amp;n=21"/>
          <p:cNvPicPr/>
          <p:nvPr/>
        </p:nvPicPr>
        <p:blipFill>
          <a:blip r:embed="rId2"/>
          <a:stretch/>
        </p:blipFill>
        <p:spPr>
          <a:xfrm>
            <a:off x="5364000" y="4149720"/>
            <a:ext cx="3383280" cy="25351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34"/>
          <p:cNvSpPr txBox="1"/>
          <p:nvPr/>
        </p:nvSpPr>
        <p:spPr>
          <a:xfrm>
            <a:off x="7524720" y="4365720"/>
            <a:ext cx="1228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5"/>
          <p:cNvSpPr txBox="1"/>
          <p:nvPr/>
        </p:nvSpPr>
        <p:spPr>
          <a:xfrm>
            <a:off x="5435640" y="5516640"/>
            <a:ext cx="895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250920" y="189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Расходы бюджета на содержание органов местн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24000" y="1341360"/>
            <a:ext cx="230328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Собрание депута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Озерского сель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4000" y="2708280"/>
            <a:ext cx="2303280" cy="9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Гла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Озерского сель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95280" y="4365720"/>
            <a:ext cx="223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Админист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Озерского сель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258920" y="220500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1258920" y="371628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395280" y="620640"/>
            <a:ext cx="201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ff"/>
                </a:solidFill>
                <a:latin typeface="Arial"/>
              </a:rPr>
              <a:t>Структура органов 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3132000" y="1341360"/>
            <a:ext cx="460872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енность органов местного самоуправления в Озерском сельсовете составляет –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енность работников , осуществляющих отдельные государственные полномоч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пециалист ВУС 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рматив формирования расходов на содержание органов местного самоуправления  в 2016 году составляет 824,8 тыс. руб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79280" y="333360"/>
            <a:ext cx="8785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Структура расходов социальной сферы на 2016 год </a:t>
            </a:r>
            <a:endParaRPr b="0" lang="en-US" sz="20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203640" y="1197000"/>
            <a:ext cx="2448000" cy="1944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04,856 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4788000" y="4724280"/>
            <a:ext cx="2016000" cy="187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5,0 тыс.ру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411280" y="4724280"/>
            <a:ext cx="2089440" cy="18734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немат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9,856 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407664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579600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349236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4427640" y="3141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Внимание, конкурс!"/>
          <p:cNvPicPr/>
          <p:nvPr/>
        </p:nvPicPr>
        <p:blipFill>
          <a:blip r:embed="rId1"/>
          <a:stretch/>
        </p:blipFill>
        <p:spPr>
          <a:xfrm>
            <a:off x="250920" y="112536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i?id=0c3fa2be01c09879388480416ed591c4-33-144&amp;n=21"/>
          <p:cNvPicPr/>
          <p:nvPr/>
        </p:nvPicPr>
        <p:blipFill>
          <a:blip r:embed="rId2"/>
          <a:stretch/>
        </p:blipFill>
        <p:spPr>
          <a:xfrm>
            <a:off x="6084720" y="1413000"/>
            <a:ext cx="2792520" cy="18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сходы на социальную политику на 2016 год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нсионное обеспечение -15,0 тыс.ру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WordArt 12"/>
          <p:cNvSpPr txBox="1"/>
          <p:nvPr/>
        </p:nvSpPr>
        <p:spPr>
          <a:xfrm>
            <a:off x="2627280" y="2133720"/>
            <a:ext cx="40197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43" name="WordArt 19"/>
          <p:cNvSpPr txBox="1"/>
          <p:nvPr/>
        </p:nvSpPr>
        <p:spPr>
          <a:xfrm>
            <a:off x="2050920" y="2421000"/>
            <a:ext cx="5689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3399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400" spc="1" strike="noStrike">
              <a:ln w="12600">
                <a:solidFill>
                  <a:srgbClr val="008000"/>
                </a:solidFill>
                <a:miter/>
              </a:ln>
              <a:solidFill>
                <a:srgbClr val="3399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Скругленный прямоугольник 1"/>
          <p:cNvGrpSpPr/>
          <p:nvPr/>
        </p:nvGrpSpPr>
        <p:grpSpPr>
          <a:xfrm>
            <a:off x="115920" y="225360"/>
            <a:ext cx="8832960" cy="933480"/>
            <a:chOff x="115920" y="225360"/>
            <a:chExt cx="8832960" cy="933480"/>
          </a:xfrm>
        </p:grpSpPr>
        <p:pic>
          <p:nvPicPr>
            <p:cNvPr id="145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15920" y="225360"/>
              <a:ext cx="88329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19240" y="299880"/>
              <a:ext cx="8634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Black"/>
                </a:rPr>
                <a:t>Финансовая помощь бюджетам поселений всего: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319,18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Black"/>
                </a:rPr>
                <a:t>тыс. руб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Рисунок 2" descr="финпомощь.jpg"/>
          <p:cNvPicPr/>
          <p:nvPr/>
        </p:nvPicPr>
        <p:blipFill>
          <a:blip r:embed="rId2"/>
          <a:stretch/>
        </p:blipFill>
        <p:spPr>
          <a:xfrm>
            <a:off x="395280" y="1052640"/>
            <a:ext cx="2305080" cy="1655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3203640" y="112536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тация на выравнивание  бюджетной обеспеченности поселений – 252,033 т.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11280" y="2708280"/>
            <a:ext cx="813744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в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бвенции по ВУС -67,149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68360" y="260280"/>
            <a:ext cx="8389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1515"/>
                </a:solidFill>
                <a:latin typeface="Arial Black"/>
              </a:rPr>
              <a:t>Основные задачи на 2016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8161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 Black"/>
              </a:rPr>
              <a:t>Расширение доходной б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8161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 Black"/>
              </a:rPr>
              <a:t>Дальнейшая реализация плана мероприятий на 2016 год по повышению поступлений налоговых и неналоговых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Обзоры - APEX Consulting"/>
          <p:cNvPicPr/>
          <p:nvPr/>
        </p:nvPicPr>
        <p:blipFill>
          <a:blip r:embed="rId1"/>
          <a:stretch/>
        </p:blipFill>
        <p:spPr>
          <a:xfrm>
            <a:off x="2268360" y="314316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ff9900"/>
                </a:solidFill>
                <a:latin typeface="Arial"/>
              </a:rPr>
              <a:t>Спасибо за внимание </a:t>
            </a:r>
            <a:r>
              <a:rPr b="1" i="1" lang="ru-RU" sz="5400" spc="-1" strike="noStrike">
                <a:solidFill>
                  <a:srgbClr val="ff99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«Бюджет для граждан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Arial Black"/>
              </a:rPr>
              <a:t>«</a:t>
            </a:r>
            <a:r>
              <a:rPr b="0" lang="ru-RU" sz="1600" spc="-1" strike="noStrike">
                <a:solidFill>
                  <a:srgbClr val="1f497d"/>
                </a:solidFill>
                <a:latin typeface="Arial Black"/>
              </a:rPr>
              <a:t>Бюджет для граждан» познакомит Вас с положениями основного финансового документа МО «Озерский сельсовет» Щигровского района Курской , а именно проекта бюджета на предстоящий 2016 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8" descr="MP900448290[1]"/>
          <p:cNvPicPr/>
          <p:nvPr/>
        </p:nvPicPr>
        <p:blipFill>
          <a:blip r:embed="rId1"/>
          <a:stretch/>
        </p:blipFill>
        <p:spPr>
          <a:xfrm>
            <a:off x="539640" y="3284640"/>
            <a:ext cx="3240360" cy="27367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9"/>
          <p:cNvSpPr/>
          <p:nvPr/>
        </p:nvSpPr>
        <p:spPr>
          <a:xfrm>
            <a:off x="4284720" y="458136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5003640" y="4292640"/>
            <a:ext cx="3745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Garamond"/>
              </a:rPr>
              <a:t>БЮДЖ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5076720" y="3357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Garamond"/>
              </a:rPr>
              <a:t>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7093080" y="393372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aramond"/>
              </a:rPr>
              <a:t>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3995640" y="551664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Garamond"/>
              </a:rPr>
              <a:t>финан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4"/>
          <p:cNvSpPr/>
          <p:nvPr/>
        </p:nvSpPr>
        <p:spPr>
          <a:xfrm>
            <a:off x="6227640" y="5300640"/>
            <a:ext cx="29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Calibri"/>
              </a:rPr>
              <a:t>Какие этапы проходит бюдж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4"/>
          <p:cNvSpPr/>
          <p:nvPr/>
        </p:nvSpPr>
        <p:spPr>
          <a:xfrm>
            <a:off x="324000" y="1557360"/>
            <a:ext cx="431640" cy="360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55640" y="1341360"/>
            <a:ext cx="824544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136eb9"/>
                </a:solidFill>
                <a:uFillTx/>
                <a:latin typeface="Garamond"/>
              </a:rPr>
              <a:t>Составление проекта бюджета</a:t>
            </a:r>
            <a:r>
              <a:rPr b="0" lang="ru-RU" sz="1600" spc="-1" strike="noStrike">
                <a:solidFill>
                  <a:srgbClr val="136eb9"/>
                </a:solidFill>
                <a:latin typeface="Garamond"/>
              </a:rPr>
              <a:t>:</a:t>
            </a:r>
            <a:r>
              <a:rPr b="0" lang="ru-RU" sz="1600" spc="-1" strike="noStrike">
                <a:solidFill>
                  <a:srgbClr val="ff0066"/>
                </a:solidFill>
                <a:latin typeface="Garamond"/>
              </a:rPr>
              <a:t> До начала составления проекта бюджета принимается нормативно-правовой акт, в котором определяются ответственные исполнители, порядок и сроки работы над документами и материалами, необходимыми для составления проекта бюджета. Непосредственное составление проекта бюджета осуществляет Администрация Озерского сельсовета Щигровского района Курской области и представляется на рассмотрение в представительный орган до 15 ноября текущего года составленный проект бюдж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95280" y="3860640"/>
            <a:ext cx="431640" cy="360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826920" y="3860640"/>
            <a:ext cx="8317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136eb9"/>
                </a:solidFill>
                <a:uFillTx/>
                <a:latin typeface="Garamond"/>
              </a:rPr>
              <a:t>Рассмотрение проекта бюджета</a:t>
            </a:r>
            <a:r>
              <a:rPr b="0" lang="ru-RU" sz="1600" spc="-1" strike="noStrike">
                <a:solidFill>
                  <a:srgbClr val="136eb9"/>
                </a:solidFill>
                <a:latin typeface="Garamond"/>
              </a:rPr>
              <a:t>:</a:t>
            </a:r>
            <a:r>
              <a:rPr b="0" lang="ru-RU" sz="1600" spc="-1" strike="noStrike">
                <a:solidFill>
                  <a:srgbClr val="eeece1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0066"/>
                </a:solidFill>
                <a:latin typeface="Garamond"/>
              </a:rPr>
              <a:t>проект бюджета будет рассмотрен на публичных слушаниях 25 ноября т.г., глава администрации не позднее 15 ноября т.г. вносит на рассмотрение Собрания депу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395280" y="5661000"/>
            <a:ext cx="431640" cy="333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16000" y="6093000"/>
            <a:ext cx="748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900000" y="5286240"/>
            <a:ext cx="82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136eb9"/>
                </a:solidFill>
                <a:uFillTx/>
                <a:latin typeface="Garamond"/>
              </a:rPr>
              <a:t>Утверждение бюджета:</a:t>
            </a:r>
            <a:r>
              <a:rPr b="1" i="1" lang="ru-RU" sz="1600" spc="-1" strike="noStrike" u="sng">
                <a:solidFill>
                  <a:srgbClr val="ff0066"/>
                </a:solidFill>
                <a:uFillTx/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0066"/>
                </a:solidFill>
                <a:latin typeface="Garamond"/>
              </a:rPr>
              <a:t>Решение о бюджете МО «Озерский сельсовет» Щигровского района Курской области на очередной финансовый год утверждается депутатами Собрания депутатов Озерского сельсо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TextBox 2"/>
          <p:cNvGrpSpPr/>
          <p:nvPr/>
        </p:nvGrpSpPr>
        <p:grpSpPr>
          <a:xfrm>
            <a:off x="2457360" y="2925720"/>
            <a:ext cx="2133720" cy="3438720"/>
            <a:chOff x="2457360" y="2925720"/>
            <a:chExt cx="2133720" cy="3438720"/>
          </a:xfrm>
        </p:grpSpPr>
        <p:pic>
          <p:nvPicPr>
            <p:cNvPr id="60" name="TextBox 2" descr=""/>
            <p:cNvPicPr/>
            <p:nvPr/>
          </p:nvPicPr>
          <p:blipFill>
            <a:blip r:embed="rId1"/>
            <a:stretch/>
          </p:blipFill>
          <p:spPr>
            <a:xfrm>
              <a:off x="2457360" y="2925720"/>
              <a:ext cx="213372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519280" y="2960640"/>
              <a:ext cx="201636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TextBox 3"/>
          <p:cNvGrpSpPr/>
          <p:nvPr/>
        </p:nvGrpSpPr>
        <p:grpSpPr>
          <a:xfrm>
            <a:off x="4694400" y="2925720"/>
            <a:ext cx="2127240" cy="3438720"/>
            <a:chOff x="4694400" y="2925720"/>
            <a:chExt cx="2127240" cy="3438720"/>
          </a:xfrm>
        </p:grpSpPr>
        <p:pic>
          <p:nvPicPr>
            <p:cNvPr id="63" name="TextBox 3" descr=""/>
            <p:cNvPicPr/>
            <p:nvPr/>
          </p:nvPicPr>
          <p:blipFill>
            <a:blip r:embed="rId2"/>
            <a:stretch/>
          </p:blipFill>
          <p:spPr>
            <a:xfrm>
              <a:off x="4694400" y="2925720"/>
              <a:ext cx="212724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751280" y="2960640"/>
              <a:ext cx="201636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TextBox 4"/>
          <p:cNvGrpSpPr/>
          <p:nvPr/>
        </p:nvGrpSpPr>
        <p:grpSpPr>
          <a:xfrm>
            <a:off x="6924600" y="2925720"/>
            <a:ext cx="2060640" cy="3438720"/>
            <a:chOff x="6924600" y="2925720"/>
            <a:chExt cx="2060640" cy="3438720"/>
          </a:xfrm>
        </p:grpSpPr>
        <p:pic>
          <p:nvPicPr>
            <p:cNvPr id="66" name="TextBox 4" descr=""/>
            <p:cNvPicPr/>
            <p:nvPr/>
          </p:nvPicPr>
          <p:blipFill>
            <a:blip r:embed="rId3"/>
            <a:stretch/>
          </p:blipFill>
          <p:spPr>
            <a:xfrm>
              <a:off x="6924600" y="2925720"/>
              <a:ext cx="206064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985080" y="2960640"/>
              <a:ext cx="194292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TextBox 5"/>
          <p:cNvGrpSpPr/>
          <p:nvPr/>
        </p:nvGrpSpPr>
        <p:grpSpPr>
          <a:xfrm>
            <a:off x="360360" y="2955960"/>
            <a:ext cx="1998720" cy="3451320"/>
            <a:chOff x="360360" y="2955960"/>
            <a:chExt cx="1998720" cy="3451320"/>
          </a:xfrm>
        </p:grpSpPr>
        <p:pic>
          <p:nvPicPr>
            <p:cNvPr id="69" name="TextBox 5" descr=""/>
            <p:cNvPicPr/>
            <p:nvPr/>
          </p:nvPicPr>
          <p:blipFill>
            <a:blip r:embed="rId4"/>
            <a:stretch/>
          </p:blipFill>
          <p:spPr>
            <a:xfrm>
              <a:off x="360360" y="2955960"/>
              <a:ext cx="199872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28760" y="3000240"/>
              <a:ext cx="187164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Скругленный прямоугольник 7"/>
          <p:cNvGrpSpPr/>
          <p:nvPr/>
        </p:nvGrpSpPr>
        <p:grpSpPr>
          <a:xfrm>
            <a:off x="633240" y="987480"/>
            <a:ext cx="7736040" cy="1469880"/>
            <a:chOff x="633240" y="987480"/>
            <a:chExt cx="7736040" cy="1469880"/>
          </a:xfrm>
        </p:grpSpPr>
        <p:pic>
          <p:nvPicPr>
            <p:cNvPr id="72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633240" y="987480"/>
              <a:ext cx="773604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01720" y="1135080"/>
              <a:ext cx="732456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оставление проекта бюджета Озерского сельсовета Щигровского района Курской области основывается н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8"/>
          <p:cNvSpPr/>
          <p:nvPr/>
        </p:nvSpPr>
        <p:spPr>
          <a:xfrm>
            <a:off x="431640" y="4437000"/>
            <a:ext cx="18720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м послании Президента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2519280" y="4437000"/>
            <a:ext cx="20178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4786200" y="4286160"/>
            <a:ext cx="19465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е социально-экономического развития Озерского сель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6912000" y="4437000"/>
            <a:ext cx="205272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х программах Озерского сель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Заголовок 1" descr=""/>
          <p:cNvPicPr/>
          <p:nvPr/>
        </p:nvPicPr>
        <p:blipFill>
          <a:blip r:embed="rId6"/>
          <a:stretch/>
        </p:blipFill>
        <p:spPr>
          <a:xfrm>
            <a:off x="841320" y="-146160"/>
            <a:ext cx="7338960" cy="120024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1079640" y="3105000"/>
            <a:ext cx="747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3276720" y="3141720"/>
            <a:ext cx="79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5435640" y="3141720"/>
            <a:ext cx="792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7524720" y="3141720"/>
            <a:ext cx="79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\\prognoz\dept\Design\Внутренние работы\Презентации\909438 - Презентация для Минфина, оформление\в работе\Доходы.png"/>
          <p:cNvPicPr/>
          <p:nvPr/>
        </p:nvPicPr>
        <p:blipFill>
          <a:blip r:embed="rId1"/>
          <a:stretch/>
        </p:blipFill>
        <p:spPr>
          <a:xfrm>
            <a:off x="1973160" y="1341360"/>
            <a:ext cx="2341800" cy="345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\\prognoz\dept\Design\Внутренние работы\Презентации\909438 - Презентация для Минфина, оформление\в работе\Расходы.png"/>
          <p:cNvPicPr/>
          <p:nvPr/>
        </p:nvPicPr>
        <p:blipFill>
          <a:blip r:embed="rId2"/>
          <a:stretch/>
        </p:blipFill>
        <p:spPr>
          <a:xfrm>
            <a:off x="4322880" y="233280"/>
            <a:ext cx="3198600" cy="4788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324000" y="5049720"/>
            <a:ext cx="2087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6084720" y="4581360"/>
            <a:ext cx="13986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7812000" y="3141720"/>
            <a:ext cx="13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Заголовок 1" descr=""/>
          <p:cNvPicPr/>
          <p:nvPr/>
        </p:nvPicPr>
        <p:blipFill>
          <a:blip r:embed="rId3"/>
          <a:stretch/>
        </p:blipFill>
        <p:spPr>
          <a:xfrm>
            <a:off x="1816200" y="3060720"/>
            <a:ext cx="2646360" cy="1133280"/>
          </a:xfrm>
          <a:prstGeom prst="rect">
            <a:avLst/>
          </a:prstGeom>
          <a:ln w="0">
            <a:noFill/>
          </a:ln>
        </p:spPr>
      </p:pic>
      <p:pic>
        <p:nvPicPr>
          <p:cNvPr id="89" name="Заголовок 1" descr=""/>
          <p:cNvPicPr/>
          <p:nvPr/>
        </p:nvPicPr>
        <p:blipFill>
          <a:blip r:embed="rId4"/>
          <a:stretch/>
        </p:blipFill>
        <p:spPr>
          <a:xfrm>
            <a:off x="4638600" y="3097080"/>
            <a:ext cx="2554200" cy="8524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5688000" y="4149720"/>
            <a:ext cx="230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7056360" y="3716280"/>
            <a:ext cx="2232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6659640" y="5121360"/>
            <a:ext cx="2089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Заголовок 1" descr=""/>
          <p:cNvPicPr/>
          <p:nvPr/>
        </p:nvPicPr>
        <p:blipFill>
          <a:blip r:embed="rId5"/>
          <a:stretch/>
        </p:blipFill>
        <p:spPr>
          <a:xfrm>
            <a:off x="5278320" y="1663560"/>
            <a:ext cx="1817640" cy="708120"/>
          </a:xfrm>
          <a:prstGeom prst="rect">
            <a:avLst/>
          </a:prstGeom>
          <a:ln w="0">
            <a:noFill/>
          </a:ln>
        </p:spPr>
      </p:pic>
      <p:pic>
        <p:nvPicPr>
          <p:cNvPr id="94" name="Заголовок 1" descr=""/>
          <p:cNvPicPr/>
          <p:nvPr/>
        </p:nvPicPr>
        <p:blipFill>
          <a:blip r:embed="rId6"/>
          <a:stretch/>
        </p:blipFill>
        <p:spPr>
          <a:xfrm>
            <a:off x="2182680" y="2054160"/>
            <a:ext cx="1567080" cy="70164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1"/>
          <p:cNvSpPr/>
          <p:nvPr/>
        </p:nvSpPr>
        <p:spPr>
          <a:xfrm>
            <a:off x="647640" y="907920"/>
            <a:ext cx="1548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4" descr=""/>
          <p:cNvPicPr/>
          <p:nvPr/>
        </p:nvPicPr>
        <p:blipFill>
          <a:blip r:embed="rId7"/>
          <a:stretch/>
        </p:blipFill>
        <p:spPr>
          <a:xfrm>
            <a:off x="-6480" y="158760"/>
            <a:ext cx="8942400" cy="1004760"/>
          </a:xfrm>
          <a:prstGeom prst="rect">
            <a:avLst/>
          </a:prstGeom>
          <a:ln w="0">
            <a:noFill/>
          </a:ln>
        </p:spPr>
      </p:pic>
      <p:sp>
        <p:nvSpPr>
          <p:cNvPr id="97" name="Равнобедренный треугольник 1"/>
          <p:cNvSpPr/>
          <p:nvPr/>
        </p:nvSpPr>
        <p:spPr>
          <a:xfrm>
            <a:off x="3054240" y="4159080"/>
            <a:ext cx="2533680" cy="1373400"/>
          </a:xfrm>
          <a:prstGeom prst="triangle">
            <a:avLst>
              <a:gd name="adj" fmla="val 500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фиц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 Black"/>
              </a:rPr>
              <a:t>Из каких поступлений в настоящее время формируется доходная часть бюджета Озерского сельсовета Щигровского района?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43000" y="1628640"/>
            <a:ext cx="7500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оходы бюджета- </a:t>
            </a: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безвозмездные и безвозвратные поступления денежных средств в бюд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42920" y="3000240"/>
            <a:ext cx="2928960" cy="3643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 Black"/>
              </a:rPr>
              <a:t>НАЛОГОВЫЕ 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оходы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усмотр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аконодательством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налогов и сборов (НДФ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емельный налог, на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на имущество физ.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214800" y="2928960"/>
            <a:ext cx="3071880" cy="3714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 Black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латежи, которые включа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в себя возмезд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операции 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рямого предост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муниципалитетом 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в аренд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429240" y="3000240"/>
            <a:ext cx="2571840" cy="3714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 Black"/>
              </a:rPr>
              <a:t>БЕЗВОЗМЕЗД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 Black"/>
              </a:rPr>
              <a:t>ПОСТУП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оступающие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бюджет средства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безвозвратно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безвозмездной  осно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из област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(в виде дотац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убсидий, субвенц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57120" y="1214280"/>
          <a:ext cx="7945560" cy="4394520"/>
        </p:xfrm>
        <a:graphic>
          <a:graphicData uri="http://schemas.openxmlformats.org/drawingml/2006/table">
            <a:tbl>
              <a:tblPr/>
              <a:tblGrid>
                <a:gridCol w="2781360"/>
                <a:gridCol w="1041480"/>
                <a:gridCol w="1349280"/>
                <a:gridCol w="1123920"/>
                <a:gridCol w="1649520"/>
              </a:tblGrid>
              <a:tr h="973800"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2015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на 201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прогноза 2016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. вес доходного  источника в объеме неналоговых доходов по прогнозу 2016 года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оценке 2015 года, в сум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 всего, в том числе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7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0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70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сдачи в аренду иму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2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0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1"/>
          <p:cNvSpPr/>
          <p:nvPr/>
        </p:nvSpPr>
        <p:spPr>
          <a:xfrm>
            <a:off x="0" y="95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 Black"/>
                <a:ea typeface="Times New Roman"/>
              </a:rPr>
              <a:t>Объемы поступлений основных неналоговых доходов в бюджет Озерского сельсовета,  тыс.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29960"/>
            <a:ext cx="8534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Основные подходы по формированию расходной части бюджета Озерского сельсовета на 2016 год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14200" y="3286080"/>
            <a:ext cx="647640" cy="5763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85840" y="5000760"/>
            <a:ext cx="647640" cy="5745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 rot="10800000">
            <a:off x="1289160" y="2856960"/>
            <a:ext cx="7488000" cy="1285560"/>
          </a:xfrm>
          <a:custGeom>
            <a:avLst/>
            <a:gdLst>
              <a:gd name="textAreaLeft" fmla="*/ 0 w 7488000"/>
              <a:gd name="textAreaRight" fmla="*/ 7488360 w 7488000"/>
              <a:gd name="textAreaTop" fmla="*/ 0 h 1285560"/>
              <a:gd name="textAreaBottom" fmla="*/ 128592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965" y="0"/>
                </a:lnTo>
                <a:lnTo>
                  <a:pt x="21600" y="10800"/>
                </a:lnTo>
                <a:lnTo>
                  <a:pt x="119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ация расходов на коммунальные у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 rot="10800000">
            <a:off x="1289160" y="4642560"/>
            <a:ext cx="7488000" cy="1428840"/>
          </a:xfrm>
          <a:custGeom>
            <a:avLst/>
            <a:gdLst>
              <a:gd name="textAreaLeft" fmla="*/ 0 w 7488000"/>
              <a:gd name="textAreaRight" fmla="*/ 7488360 w 7488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98" y="0"/>
                </a:lnTo>
                <a:lnTo>
                  <a:pt x="21600" y="10800"/>
                </a:lnTo>
                <a:lnTo>
                  <a:pt x="108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ый бюджет – реализация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 rot="10800000">
            <a:off x="1285560" y="1396440"/>
            <a:ext cx="7488360" cy="93636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83" y="0"/>
                </a:lnTo>
                <a:lnTo>
                  <a:pt x="21600" y="10800"/>
                </a:lnTo>
                <a:lnTo>
                  <a:pt x="145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ботная плата и коммунальные плате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ланированы в полном объ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324000" y="1576440"/>
            <a:ext cx="647640" cy="5763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униципальные программы социальной направлен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ыс.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1585800"/>
          <a:ext cx="8424720" cy="1414440"/>
        </p:xfrm>
        <a:graphic>
          <a:graphicData uri="http://schemas.openxmlformats.org/drawingml/2006/table">
            <a:tbl>
              <a:tblPr/>
              <a:tblGrid>
                <a:gridCol w="6800760"/>
                <a:gridCol w="162396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культу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,8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37" descr="i?id=8ec09200a8962ef88836494f1110652c-142-144&amp;n=21"/>
          <p:cNvPicPr/>
          <p:nvPr/>
        </p:nvPicPr>
        <p:blipFill>
          <a:blip r:embed="rId1"/>
          <a:stretch/>
        </p:blipFill>
        <p:spPr>
          <a:xfrm>
            <a:off x="2786040" y="4071960"/>
            <a:ext cx="3429000" cy="257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9:52:27Z</dcterms:created>
  <dc:creator>Шишкин Алексей Александрович</dc:creator>
  <dc:description/>
  <dc:language>en-US</dc:language>
  <cp:lastModifiedBy>Admin</cp:lastModifiedBy>
  <dcterms:modified xsi:type="dcterms:W3CDTF">2016-03-15T08:29:06Z</dcterms:modified>
  <cp:revision>941</cp:revision>
  <dc:subject/>
  <dc:title>Слайд 1</dc:title>
</cp:coreProperties>
</file>